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075591"/>
        <c:axId val="33770215"/>
      </c:barChart>
      <c:catAx>
        <c:axId val="830755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770215"/>
        <c:crosses val="autoZero"/>
        <c:auto val="1"/>
        <c:lblAlgn val="ctr"/>
        <c:lblOffset val="100"/>
        <c:noMultiLvlLbl val="0"/>
      </c:catAx>
      <c:valAx>
        <c:axId val="337702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0755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0545-89A0-4D2C-8DEB-20A544DF1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2BEB-F329-45FC-828E-8EE2A784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F540-4AC0-41BD-92D2-587D2A80C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7AEC-B34B-4E3E-9A85-9F03B3672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12E6-EBEA-4585-98A3-71062CFC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F07F-10C8-4CCE-8C04-9CE7B516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0D0C-E75B-45E9-BBE9-296D32CC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FD21-AFF6-4C84-A5BC-70867AED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FFD6-171C-4F52-A717-C1D929ED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8644-46A3-448C-B9BB-C8C73DF0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8C03-E33F-42AC-9989-C9A7EAAA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66CE-259F-4FEF-ACD1-4B91FE13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1A1615-DC54-4153-96B0-4C0228E1EC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