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13144"/>
        <c:axId val="76369066"/>
      </c:barChart>
      <c:catAx>
        <c:axId val="27013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69066"/>
        <c:crosses val="autoZero"/>
        <c:auto val="1"/>
        <c:lblAlgn val="ctr"/>
        <c:lblOffset val="100"/>
        <c:noMultiLvlLbl val="0"/>
      </c:catAx>
      <c:valAx>
        <c:axId val="76369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13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AED-9C64-47EB-BC11-22DAAC24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846-77B9-446F-9858-79116A02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EDC-0913-46CC-91AA-636459D8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5D9-45C2-4700-9754-A9B8709F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F1D-B937-499C-A66A-1865D251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D0F-4C89-4A5A-A1C2-15484799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5F9-7696-4F67-BC54-9D2B81AB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2A7-E885-4BBF-8039-0226EA55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E34-E839-43A2-9399-57995F25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A28-1650-4746-8954-6356EF78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CC1-68AE-467C-ABFF-08DE2E97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62D-C2DD-4AFC-BA57-3F185396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11DDE-8234-4182-9751-DFBECFF4CD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