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67760"/>
        <c:axId val="7133325"/>
      </c:barChart>
      <c:catAx>
        <c:axId val="81367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3325"/>
        <c:crosses val="autoZero"/>
        <c:auto val="1"/>
        <c:lblAlgn val="ctr"/>
        <c:lblOffset val="100"/>
        <c:noMultiLvlLbl val="0"/>
      </c:catAx>
      <c:valAx>
        <c:axId val="7133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67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A4A-1F37-4165-9CEB-E018AC03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B63-361C-478B-84DB-DAE753C2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D9E-7CAA-4016-81C5-08417C8C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028-A570-4B43-915E-3F370B67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140-E09E-4872-A83D-72BF82D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C59-84A9-4F3B-90D1-9D4A2D24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B6A-5C3F-4D5B-BE21-4F7ECF91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BB3-B51F-49A3-8871-78F1BBFF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03F-6EF0-4E50-A05C-35B6AB7E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077-7527-40E8-ABED-5F7AE85A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CBA-8F39-4AF6-998A-C3DA02C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DA4-90A2-4D46-8912-BEBF540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75DA9-757B-439E-9990-87AB0A8F96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