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08009"/>
        <c:axId val="82916031"/>
      </c:barChart>
      <c:catAx>
        <c:axId val="53908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16031"/>
        <c:crosses val="autoZero"/>
        <c:auto val="1"/>
        <c:lblAlgn val="ctr"/>
        <c:lblOffset val="100"/>
        <c:noMultiLvlLbl val="0"/>
      </c:catAx>
      <c:valAx>
        <c:axId val="82916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08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0EF-5639-4DCB-8F9B-1D7B0C43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CA6-EBD2-4CF3-B7F8-47F6A2DD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201-204A-48A3-BBD6-651D2682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471-CB20-47C0-8993-C547E7B3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A50-5606-4EF7-A7AA-75AAA56A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73B-13C6-4A82-8943-860338B4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C9E-1333-40E7-B60E-6F926320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3CB-8AC0-452E-9825-A5652076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DCC-447E-4AF5-9120-E8CAFD5D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69D-F232-41AB-BD16-C9640560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52C-7958-4099-AA66-97A984BB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938-D0AD-4E58-8723-ED92EB54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47BF4-F23E-4934-B131-A1450C9806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