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0103"/>
        <c:axId val="1516096"/>
      </c:barChart>
      <c:catAx>
        <c:axId val="7640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6096"/>
        <c:crosses val="autoZero"/>
        <c:auto val="1"/>
        <c:lblAlgn val="ctr"/>
        <c:lblOffset val="100"/>
        <c:noMultiLvlLbl val="0"/>
      </c:catAx>
      <c:valAx>
        <c:axId val="1516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0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3F7-94DF-4D54-B90A-4A78DAF8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0789-19CF-4EF1-B4B8-53DB6DA2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5E3-A993-41F0-A7D1-8EA84200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79F-C513-446D-BB17-C485E584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792-2917-456B-8745-5C831B01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BB6-7F59-44C0-9AE9-6042B9D9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CA2D-1E4C-495D-8F84-A20FBB2F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FFC-F95A-4A45-99B1-6D12C2F1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5F2-2293-4FCC-AE2B-E7E59186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2A9-C817-40C4-BDFF-F9F247DF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D71A-F552-4E93-9CE3-352DF4CD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5E5-F42E-453B-9813-A32D36B8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C0BB4-5DD5-4340-896E-B0000CB8DB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