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2195"/>
        <c:axId val="48544270"/>
      </c:barChart>
      <c:catAx>
        <c:axId val="7072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44270"/>
        <c:crosses val="autoZero"/>
        <c:auto val="1"/>
        <c:lblAlgn val="ctr"/>
        <c:lblOffset val="100"/>
        <c:noMultiLvlLbl val="0"/>
      </c:catAx>
      <c:valAx>
        <c:axId val="48544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2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BA8-97FA-4458-8694-B386A7A4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050-E342-41D5-9ED4-76DE81EA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998-89ED-4AAB-8FE8-422FA5AF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2C19-B757-4B82-B516-4E954DD9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098-2822-4212-B02A-DEB7CF83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AD2-22F0-449B-B016-BAEC1A5B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05EA-4F5D-45CA-9685-8E36D075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3D3-A47B-476B-BCB4-59350807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96E-D7BC-419F-AD5A-61F7B524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A12-A66A-4D5C-BCB2-1B097C7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BF1-AD7D-4308-82D3-5FB79C46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652-092E-40FB-A816-C1A12B1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EE3D-BF73-4A94-A0DD-7A00C03D9C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