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39479"/>
        <c:axId val="9616009"/>
      </c:barChart>
      <c:catAx>
        <c:axId val="94439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6009"/>
        <c:crosses val="autoZero"/>
        <c:auto val="1"/>
        <c:lblAlgn val="ctr"/>
        <c:lblOffset val="100"/>
        <c:noMultiLvlLbl val="0"/>
      </c:catAx>
      <c:valAx>
        <c:axId val="96160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39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698-41BA-4727-8F7D-18ECBF44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103-7F64-4418-A599-18E53021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6B21-9DC5-4557-BBE7-C538CC6D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33C-1F8D-4CF2-8FC0-CBFCFD43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B60-ACE0-4B00-BFDE-A1AEC009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7D5-F8F1-43D4-AB46-B148B405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6EF-707F-4A45-BB1F-BA2BDB01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733-54F9-4D73-8C86-1A51DB0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BB5-9FF3-47AB-9729-4FE578AF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A6C-5152-44C6-B2D5-F7F9F1C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400-7DE7-43F2-A1ED-3C24AFA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F81-4111-46FC-B200-A26EB720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C2EB8-EE75-4DD8-8D24-1FDB6BE30C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