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38436"/>
        <c:axId val="67350564"/>
      </c:barChart>
      <c:catAx>
        <c:axId val="91338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0564"/>
        <c:crosses val="autoZero"/>
        <c:auto val="1"/>
        <c:lblAlgn val="ctr"/>
        <c:lblOffset val="100"/>
        <c:noMultiLvlLbl val="0"/>
      </c:catAx>
      <c:valAx>
        <c:axId val="67350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38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F49-0C5C-4349-A122-85D7973A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9B0-EDA0-4627-A25E-D39207AE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F80-6C70-4132-9DF0-64173AE6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30C-B5CC-4E94-929B-7A309678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696-491F-4E56-9E54-703D8BE4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5CD-D80F-48CA-8C0C-7DF9CFB7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3EB-E30F-43F1-9A7D-710680D2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DDB-20C9-4E67-ACA9-5334C7D9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A10-6845-480E-A562-28C2D88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103-507B-447D-893D-ABE0DA9C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560-8566-417E-8A34-7945CDF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59E-335F-447F-BFC9-DA7038F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1FF11-7268-4F71-B3FF-EA61400E38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