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21976"/>
        <c:axId val="37531980"/>
      </c:barChart>
      <c:catAx>
        <c:axId val="77221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31980"/>
        <c:crosses val="autoZero"/>
        <c:auto val="1"/>
        <c:lblAlgn val="ctr"/>
        <c:lblOffset val="100"/>
        <c:noMultiLvlLbl val="0"/>
      </c:catAx>
      <c:valAx>
        <c:axId val="375319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21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746-5169-47B5-AA84-CECAFB73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4F0-706E-406D-B9CD-E89922E7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B57-F5AE-4FEC-B37B-156BA1E0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A68-B176-4335-97C5-99B00594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210-8391-4938-8B14-36B47148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EED-B008-4694-BDEA-A6E9333D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86E-5FCB-4FA1-94E1-8FC8E26D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904-CCC3-44CC-A66E-3E80CC75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15F-2FBF-4763-8535-A8CA556A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07E-B4FD-4547-AFF9-FBCBE977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00B-1542-459D-B251-FEBDCC91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39B-FDA7-4918-A820-4212CB97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F9FBF-E7BE-4B02-9B85-34DCF5EFEB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