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639846"/>
        <c:axId val="99309438"/>
      </c:barChart>
      <c:catAx>
        <c:axId val="11639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09438"/>
        <c:crosses val="autoZero"/>
        <c:auto val="1"/>
        <c:lblAlgn val="ctr"/>
        <c:lblOffset val="100"/>
        <c:noMultiLvlLbl val="0"/>
      </c:catAx>
      <c:valAx>
        <c:axId val="99309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39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934-A204-4634-85EC-07DE7F05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121-8551-4E57-8F6F-8EDBDD67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B4A-C0B3-4A49-A56F-D920DFD3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DA9A-67EA-4A3A-B93D-7E9C7729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327-3A5E-44F0-84EF-B8429DE5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120-AD59-4189-B334-A28592CE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B35-BD3C-43AC-933D-43E97620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002-885F-408B-9038-49235ACC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315-8D00-4966-B404-E3A2A74D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7B3-C041-49EF-8696-7BD318DC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A9F-17EF-4D53-B515-3EAB5F85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E38-8C33-4B56-87BC-DDBF7A5C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31044-1CB6-4013-9EF8-9356275683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