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913845"/>
        <c:axId val="4810309"/>
      </c:barChart>
      <c:catAx>
        <c:axId val="299138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0309"/>
        <c:crosses val="autoZero"/>
        <c:auto val="1"/>
        <c:lblAlgn val="ctr"/>
        <c:lblOffset val="100"/>
        <c:noMultiLvlLbl val="0"/>
      </c:catAx>
      <c:valAx>
        <c:axId val="48103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138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ED98-AE06-4B1B-ADAD-FE0162B5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4463-F8E5-40D0-B2AB-AE3A95FF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EA07-22C2-4124-958E-6A2212496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ED08-B387-4BA5-ADFC-A96F63E8A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4CA7-034A-401A-8FAF-A1769464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2DFE-DA23-4708-A915-67256748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45B5-8D83-4E0F-8D14-BAAF968E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45D3-690C-48CA-A921-A2EE6477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84B7-1DBE-4351-B70F-9C49BC85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3573-8EDC-46C1-9241-E5C16FF2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0A21-1A2A-4AE6-A723-035D5894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591C-71B8-48E9-BBB6-9D4E8D84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C4F23-4383-42D7-B424-5ECFABA574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