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52457"/>
        <c:axId val="32351708"/>
      </c:barChart>
      <c:catAx>
        <c:axId val="32452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51708"/>
        <c:crosses val="autoZero"/>
        <c:auto val="1"/>
        <c:lblAlgn val="ctr"/>
        <c:lblOffset val="100"/>
        <c:noMultiLvlLbl val="0"/>
      </c:catAx>
      <c:valAx>
        <c:axId val="32351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52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A1B-5256-4FC2-9D64-EE45A5D7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231-BAD1-4358-B392-55ED4854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4F9-9431-485D-B637-56213FC1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6DC-108E-4C5C-8C7B-3416E289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F5D-57A0-4C40-B9E0-52BC17B7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26C-C890-44D2-925E-7DA26E88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CF8-2997-4BDB-BBD8-701EE84A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BEE-E6BD-4A54-8FDF-0D1F1BCB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DDA-1384-4CA9-978C-FB94F4AA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B63-7301-4EBA-9C3A-10E9E046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D41-891C-4931-823F-D7BEDFF8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F84-979C-4F43-AF66-D694BD3D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EDED7-3465-4246-BEDB-E170F18CEE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