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77255"/>
        <c:axId val="55289710"/>
      </c:barChart>
      <c:catAx>
        <c:axId val="38777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89710"/>
        <c:crosses val="autoZero"/>
        <c:auto val="1"/>
        <c:lblAlgn val="ctr"/>
        <c:lblOffset val="100"/>
        <c:noMultiLvlLbl val="0"/>
      </c:catAx>
      <c:valAx>
        <c:axId val="55289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7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9BD-16F0-412A-922A-CAC547BE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582-E285-4D97-B4D1-72E14B20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F6B-63B9-4F2A-A85F-0BC92886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5C7-0519-4AC7-AEF9-8EE8CB2A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D0A-C54E-484F-86B0-6E48456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54C-2173-47B4-9050-BC25AD64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203-5BE8-47F0-9633-1AE172AA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B42-A76B-4FD3-93AF-746F0D81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C1B-3866-4978-8E35-318B69BD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DBB-2F00-4FC1-873D-55E87020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C1D-1E81-4CB1-893E-E4017B9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DC7-F90C-4022-A105-D2FE187A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6CF79-B6F0-4884-AF49-BFD422071B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