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14851"/>
        <c:axId val="76564273"/>
      </c:barChart>
      <c:catAx>
        <c:axId val="83014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64273"/>
        <c:crosses val="autoZero"/>
        <c:auto val="1"/>
        <c:lblAlgn val="ctr"/>
        <c:lblOffset val="100"/>
        <c:noMultiLvlLbl val="0"/>
      </c:catAx>
      <c:valAx>
        <c:axId val="76564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14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BD1-C04E-42A3-8427-2457C255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D49-F55A-403C-936C-2E5CC32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438-5EC8-46E7-B57A-5EA236B3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6611-A830-4268-A2D1-87409BF1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B6A-FD11-44D8-9494-6F0A9A8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3C7-A24B-4569-B447-F7B2453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F02-0B9D-45D7-B6A6-1D74B8CF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3C3-59E6-484F-8821-AC2ABBC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A8A-0AD1-4A72-9555-019D75B9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61A-2783-4B5B-B158-5FEB8600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AE3-14F1-484A-B7A1-14D85D2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6DE-A45A-448F-B9C5-EB71D19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4B630-FEFB-4C03-83E2-2827615BA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