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38909"/>
        <c:axId val="1401498"/>
      </c:barChart>
      <c:catAx>
        <c:axId val="43238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1498"/>
        <c:crosses val="autoZero"/>
        <c:auto val="1"/>
        <c:lblAlgn val="ctr"/>
        <c:lblOffset val="100"/>
        <c:noMultiLvlLbl val="0"/>
      </c:catAx>
      <c:valAx>
        <c:axId val="1401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38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0F0-7D11-4683-B04D-6D333B19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FAB-9799-4F20-93C0-44ED38DD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188-3184-45CE-BEF5-2DA5D58D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0F7-61F5-4875-B02C-0865785B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A12-EE9B-4888-8BB6-CAFBA6AE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F4A-DAEC-4A87-95ED-C0BE61FC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22E-74D0-4E6F-B797-816A0D51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5CB-ED83-41F6-B0D1-773F76F9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090-A4FF-4BA3-B1D2-8FDB4B9B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34A-9702-4162-9762-C1B24006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933-FD93-4938-AFF7-F780FD6F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231-9859-483E-B687-EA1203AC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8531A-4DB3-4494-8A14-A6822E8F10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