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24240"/>
        <c:axId val="77466885"/>
      </c:barChart>
      <c:catAx>
        <c:axId val="42624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66885"/>
        <c:crosses val="autoZero"/>
        <c:auto val="1"/>
        <c:lblAlgn val="ctr"/>
        <c:lblOffset val="100"/>
        <c:noMultiLvlLbl val="0"/>
      </c:catAx>
      <c:valAx>
        <c:axId val="77466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24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A0F-A44C-4356-8E84-5FF9B284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38C-2320-4DF7-8BE5-F854AF69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90F-40AB-4B49-83A9-E8002BFC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E5A-14B7-4A63-8D9F-115E8A3F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74B-9B2C-4B32-9313-580AC6B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B73-ED59-43A5-9C3C-6B8F9FE0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A5E-55ED-400E-A192-6FB50A82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BA2-6C13-4989-A97B-A4991754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988-3612-481A-B838-60DC3916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31E-6595-46FE-B526-528D9DA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8C7-6BA6-410D-9C68-580C588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192-CB0F-4A6E-A125-B438132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EA69F-8FD3-4E9A-9E6F-14F1AFC8F4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