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82870"/>
        <c:axId val="81122281"/>
      </c:barChart>
      <c:catAx>
        <c:axId val="14828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22281"/>
        <c:crosses val="autoZero"/>
        <c:auto val="1"/>
        <c:lblAlgn val="ctr"/>
        <c:lblOffset val="100"/>
        <c:noMultiLvlLbl val="0"/>
      </c:catAx>
      <c:valAx>
        <c:axId val="811222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28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E3A6-6EF4-4FF5-AF26-7A3397F7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E795-E3DF-4250-9151-2136BED1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FFA4-137B-4C92-9107-02F353C9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E02D-A9A8-4B53-9781-358FA02F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4933-44F2-4F5B-B030-15C88E17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F436-0628-498F-B078-596291FB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20B6-1B49-4046-AF26-F90BA706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0AE2-AAA4-4112-BF6E-F47B5272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82C9-0452-4FBD-8690-3D7B3A0C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D7D7-A5E6-456B-A5B0-9FD5B459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BC1B-466A-4B58-B1FF-DC2D081D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2BD0-2F5D-428A-9C5F-931034F2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3201F-BF8E-4CFE-A7C4-C3BF510331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