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69796"/>
        <c:axId val="9328494"/>
      </c:barChart>
      <c:catAx>
        <c:axId val="72697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8494"/>
        <c:crosses val="autoZero"/>
        <c:auto val="1"/>
        <c:lblAlgn val="ctr"/>
        <c:lblOffset val="100"/>
        <c:noMultiLvlLbl val="0"/>
      </c:catAx>
      <c:valAx>
        <c:axId val="93284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97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B980-04F9-4999-BAFE-5C3A8773C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1896-D5D4-4026-A761-49E97A68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2CE4-C7B9-44D3-B46F-057D80EE0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5F60-1A9F-4852-9372-FEF96285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01CD-26CF-46B6-8E20-48DFFF96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C276-759B-4C7C-B93C-D3DF5686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2F29-94AA-4618-B7A1-4F1B411F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3E04-6B02-4F63-8150-EC929C9E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31D2-8A74-4693-A4B1-0E52924A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DCEF-EAE2-49DC-ACCA-63532115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CF8D-7671-4B3F-9CB8-F54024B1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18E5-FA1C-44DB-87D1-7D5E4373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B6E4F-6B2D-4057-900F-70149DF38F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